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5E8-98D8-4D2E-9805-4C6ADBFA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BEA-6525-4F08-9508-1F8E8D99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661-25A0-4947-8DD5-98179A08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834-50B2-48BD-8557-920F8DA0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EC5-3689-49D6-94CE-6CE8AA47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E9D-D4DB-4CD0-B19D-505EBD6C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412-C41D-4512-BD5A-3D042CDD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F14-E11B-4B2D-A081-02E64188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E94-F6B6-4F0F-A4E6-8FE4F12E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FD7-DB41-4E6E-9C92-C32EB62E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856-997C-4321-968C-3EF6A447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9F9-6BEB-43C9-9387-0275D3F6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B582-43AF-4372-AA9F-42D571442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bsolut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guel de Cerv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wrote Europe’s first modern novel Don Quix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50-1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is novel mocked medieval tales of chivalry; it depicts both foolish &amp; heroic ide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guen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rench Protest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60-15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 plot by the Catholic royals led to the massacre of 3000 Huguenots= symbolized the complete breakdown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nry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King of France, Hugue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rench prince also a Huguenot , inherited the throne as Henry I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fought against Catholic opposition for control of France; to end the conflict he converted to Catholic &amp; then allowed religious tolerance with the Edict of Na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ict of N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XIV, Huguen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document for  Huguenots that gave them religious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granted religious toleration and freedom = numerous religions were allowed in France, brought peace to France &amp; ended religious figh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dinal Richilie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XIV’s chief minister, Catholic Cardi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cunning capable leader that devoted 18 yrs to strengthening the French central gov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sought to destroy the Huguenots (Protestants) &amp; nobles- outlawed their armies &amp; smashed their citie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uis X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French King, “The Sun King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governed France himself, believed in Divine Right to Ru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43-17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expanded the bureaucracy &amp; appointed intendants = cemented ties to middle class, built an army; emphasized his own importance = levee; classical age= sponsored French academics; made France strongest state in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nd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 offic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oyal officials that collected taxes for Louis X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ppointed by Louis XIV to cement ties with the wealthy middle class so he could focus on taking power away from the no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ean-Baptiste Colb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King Louis XIV’s finance min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imposed Mercantilist policies to bolster the ec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helped Louis XIV secure his ties w. France’s middle class &amp; stabilize the economy; he put tariffs on imported goods, fostered overseas colonies, regulated trade w. colonies; helped make France wealthiest in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sa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Louis XI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a hunting lodge that Louis XIV turned into the most magnificent palace in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served as a symbol of king Louis XIV’s wealth  &amp; power as the “Sun King”; ceremonies honoring the king were held here; made nobles live here in order to control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 &amp; King Louis X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ceremony honoring the king; means “the rising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Louis XIV made nobles at court serve the him &amp; swear fealty to him in these ceremonies= showed his absolute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lance of p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XIV (French), Dutch,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keeping balance amongst European nations so no one nation became too power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rival rulers joined forces to sotp Louis XIV from expanding France’s borders &amp; taking over Europe= balance kept any one power from controlling the whole contin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mes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he first Stuart mon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greed to rule according to the English l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lectured Parliament about Divine Right; repeatedly clashed w. Parliament over money &amp; foreign policy ; clashed w. diss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s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rotestants vs. James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rotestants that differed with the Church of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Puritans called for simpler service w.o bishops; James I rejected their demands &amp; they fled England for religious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i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James I, Church of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one group of dissenters that sought to purify the church of Catholi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3-16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James rejected their demands for a simpler service &amp; more democratic services w.o bishops = they fled England for America &amp; religious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les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King of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behaved like an absolute monarch &amp; made England m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25-16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is behavior caused probs w. Parliament = English Civil War = he was beheaded = England had a dictat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ver Cromw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lish Bill of  Ri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mited 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psburg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Charles V, Philip II, Ferdin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empire that included the Holy Roman Empire &amp; the Nether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 &amp; Nether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19-17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re was too much land to defend so Charles V broke up his lands &amp; divided the empire b.n his brother and 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itutional Gover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ritish, Ger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gov’t whose power is defined &amp; limited by law, by a constit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-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supported broad royal powers &amp;  a dominant Anglican church; reflected business interest, support religious toleration &amp; favor Parliament  over the cr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bi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George I, George II, Engl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handful of Parliament advisors who set poli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Eng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0-17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set policies in a small room= cabinet= gaoined official status; head= prime Minister, leader of majority party= countries later adopted &amp; adapted this cabinet system= we have one to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German princ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German princes who in theory the states were ruled by the Holy Roman Empire who was chosen by seven leading german pri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18-164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the Emperor had little power over the electors= this power vacuum led to 30 years war; religion further divided the German states= north Protestant, south= Catholi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din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Catholic Hapsburg king of Boh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ought to suppress Protestants and to assert royal power over no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Bohemia, present day  Czech 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declared royal power over nobles = started 30 years war; Defenestration of Prague= started the w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c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oldiers for h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burned villages, destroyed crops, &amp; killed w/o mer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18-16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when a ruler or someone who could pay for it wanted an army = hire mercernaries = they destroyed Europe’s population by destroying villages &amp; their peo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eduction in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Germ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50-1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s many as 1/3 of the population in the German states died as a result of Mercenary armies during the 30 years w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ace of Westphal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Austri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treaty that brought peace to Europe after the 30 years war &amp; settled international probl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Austr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4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Austria became a strong Catholic state w. new Protestant power; in this treaty German lands were divided which broke up German pow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ia There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Hapsburg Em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intelligent &amp; capable femal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17-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she strengthened Hapsburg power; forced nobles &amp; clergy to pay taxes; was involved in the war of Austrian Suc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les 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ruler of the Hapsburg Emp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ruled the Hapsburg Empir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Sp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15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fought to suppress Protestantism in the German states; always involved in constant religious warfare; went into monastery b.c. he was disillusioned by the enormous empire he had to rule; broke up his lands &amp; divided the Hapsburg Emp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 of the Austrian Succ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aria Theresa (Austrians &amp; Hungarians) vs. Pruss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conflict over who should succeed to the Austrian throne b.c. a woman had never ruled 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 v. A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40-17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Hohenzollern family, Prussi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a region called Prussia, emerged as a new Protestant power- family ruled scattered lands across N.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P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0-17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following the Peace of Westphalia after 30 years war= ambitious Hohenzollern rulers uniting their holdings= unified Prussia= became one of the most powerful countries in Eur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derick William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Prussian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e gained loyalty of Prussian nobles called Jun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reduced the nob les’ independence &amp; increased his own control; placed great emphasis on military, trained one of the best military’s in Euro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derick William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russian ruler, son of Frederick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russian ruler who came to power after his father in 1713 &amp; well trained in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13-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oldly seized Silesia from Austrian Succession; forced all to recognize Prussia as a great power= called Frederick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ter the Gr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Romanov Tsar of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transformed Russia into a leading power in the world; helped modernize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89-172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he began a new policy of Westernization of culture; was an autocratic monarch that enforced his policies; brought all Russian institutions under his control; built St. Petersburg; expanded Russian borders; left a mixed legacy w. no hei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ster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o: Peter the Gre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: the adoption of western ideas, technology, &amp; culture in Russ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n: 169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y: Peter went to extreme measures to westernize Russia= mixed feelings about his rule; persuading Russians to change their ways= difficult but his absolute power made them; imported W. technology &amp; brought W.. Education; simplified the alphabet; brought European culture to Russia (clothes, etc), set up academies for study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ocr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onarc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one who ruled with unlimited autho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 &amp;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Peter became the most  Autocratic of Europe’s absolute monarchs = no one had rights or authority except the autocratic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y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Russian no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landowning nobles that served the state  in civilian/military pos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60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Peter wanted to strengthen the military = he forced the Boyars to serve civilian &amp; military positions; he made them shave their beards &amp; change their old fashioned robes w. Western clothes; Boyars still retained control over their la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water 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eter the Great &amp; Catherine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port free of ice 24/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, Black 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622-16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Russian ports froze during winter = they couldn’t trade; to trade year round = needed warm water port; he wanted to gain control of it by defeating Ottoman Empire but failed to do so; later= Catherine the Great go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ip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e expanded the Spanish influence &amp; strengthened the Catholic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50-16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centralized power to make his power absolute; saw himself as guardian of the Catholic church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. Petersbu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Peter the Grea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a magnificent new capital city named after Peter; “Window to the West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7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this became a great symbol of Peter the Great’s effort to forge a modern Russia; this opened a new window to the West; he forced the Serfs to create this city; Italian architecture made the city Weste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herine the Gr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German prin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married heiress to the Russian throne; succeeded Peter the Gre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762- 179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possibly killed her husband to obtain rule in Russia; followed in Peter’s footsteps &amp; worked to Westernize Russia during her reign; absolute monarch- forced peasants into Serfdom; expanded russia’s borders &amp; gained warm-water port on Black S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ulers of Russia, Prussia, &amp; A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n agreement that divided up Pol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o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70-17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kept the 3 larger empire from fighting over the territory; Catherine took part of Eastern Poland, Frederick &amp; Joseph took part in the West; not until 1919 would a free Polish state app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lute Mon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hilip II, Henry VIII, Louis XIV, Catherine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uler with absolute authority over the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s-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rulers had complete control over their people &amp; countries; they ruled by Divine Right which justified their absolute power = ppl had no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ine R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Absolute monarchs (Philip II, Louis XI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uthority to rule is given from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00-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bsolute monarchs asserted that they ruled by this- the will of God; since God put these monarchs in their place- they had absolute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m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fleet that had 20,000 men and 130 ships that sailed to England to inv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 to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Philip II wanted the Armada to invade England; the Armada lost b.c of winds in the English channel= this defeat led to England becoming #1 power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Gre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amous Greek pai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ainted religious &amp; spiritual paintings of Spanish no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, Italy &amp; Gre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550-16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was a large influential figure during Spain’s golden age; court painter to Philip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6:04:57Z</dcterms:created>
  <dc:creator>Windows User</dc:creator>
  <dc:description/>
  <dc:language>en-US</dc:language>
  <cp:lastModifiedBy>Windows User</cp:lastModifiedBy>
  <dcterms:modified xsi:type="dcterms:W3CDTF">2013-01-11T20:45:51Z</dcterms:modified>
  <cp:revision>26</cp:revision>
  <dc:subject/>
  <dc:title>James I</dc:title>
</cp:coreProperties>
</file>